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41F3-FFA0-47D5-9B06-23E5D864E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2C22-34F6-4184-A971-686FE5DD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668-BDA1-4704-B8E6-E6E6EC232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3A4F-7F10-4DF0-B1DF-F0D32F53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FBA-2100-40BD-9444-6FD8AD5E6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773F-7468-4BEF-AE4B-5AE9F1741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D1DA-CA08-45B1-8E1E-501CCD5F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D566-3633-4262-824C-C8308DB1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F5EC-B704-4F33-91FF-73E47DB73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3823-6ADE-4B87-B90C-18007C25C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454-6132-4CF3-B80C-619928936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518-29E2-4BAC-BD78-18AD7562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A428-5062-427D-ADEC-3F54FD5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B159-7E21-45DB-8808-84AD43B0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57CC-8BE1-452D-B4C2-94C058A1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217-AC27-40EC-AF04-73EAF26B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4322-BDB9-41C8-BE64-E3D2DDB0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DFBA-426F-4DA0-BF0E-DF57DB1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B08-6CBF-4CA0-8391-32A7AAC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B373-F6A3-4A80-94F2-A8159C30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B120-9B03-45C4-99A2-B43AFFE9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A886-8331-4726-9033-AD19EA25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06D-2F7F-4768-B08D-84D77BDB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6447-EFEA-4760-A3CB-6F4A639D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tpwww.gsfc.nasa.gov/globe/pvg/highph2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apter 10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cological Rest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logical Succ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covery (to state prior to human disturbance) is possible if damage is not too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 good understanding of natural succession to facilitate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Answ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s to be a balance betw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ition of nutri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ecosystem as living things grow and die and dec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The climax state appears not to exist indefini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ioration appears to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tterns of Species Change During Succes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Facili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terfer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Life History Dif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hronic Patchi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3927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mat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ectotree"/>
          <p:cNvPicPr/>
          <p:nvPr/>
        </p:nvPicPr>
        <p:blipFill>
          <a:blip r:embed="rId1"/>
          <a:stretch/>
        </p:blipFill>
        <p:spPr>
          <a:xfrm>
            <a:off x="4606920" y="1600200"/>
            <a:ext cx="391644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648320" y="57913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matter is  soil’s best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mg006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s store more chemical elements than living things, but cycle much more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ture ecosystems more elements are stored in the trees/flora and soils may be very p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1"/>
          <p:cNvSpPr/>
          <p:nvPr/>
        </p:nvSpPr>
        <p:spPr>
          <a:xfrm>
            <a:off x="914400" y="304920"/>
            <a:ext cx="769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highph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66680"/>
            <a:ext cx="4419720" cy="3216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Quartz Sands"/>
          <p:cNvPicPr/>
          <p:nvPr/>
        </p:nvPicPr>
        <p:blipFill>
          <a:blip r:embed="rId3"/>
          <a:stretch/>
        </p:blipFill>
        <p:spPr>
          <a:xfrm>
            <a:off x="457200" y="3505320"/>
            <a:ext cx="4095720" cy="2590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9480" y="607860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 is la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ds less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0" y="2438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particles are very small and hold more nutr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drawing of relative particle size - 8.3 K"/>
          <p:cNvPicPr/>
          <p:nvPr/>
        </p:nvPicPr>
        <p:blipFill>
          <a:blip r:embed="rId4"/>
          <a:stretch/>
        </p:blipFill>
        <p:spPr>
          <a:xfrm>
            <a:off x="4952880" y="1447920"/>
            <a:ext cx="3733920" cy="4735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7"/>
          <p:cNvSpPr/>
          <p:nvPr/>
        </p:nvSpPr>
        <p:spPr>
          <a:xfrm>
            <a:off x="5029200" y="388620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ce of surfac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304920"/>
            <a:ext cx="8007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urbances, such as fire, return elements to soil (highly water soluble) for rapid re-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rooted trees, from st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t2.gstatic.com/images?q=tbn:ANd9GcTsSDILxWtXqVKtA0SmvwDTWx2FIaOY3VhoVhlodwjzwVezrEE&amp;t=1&amp;usg=__8PGOcdI0QzeiNN_4HQD6epmWmMU="/>
          <p:cNvPicPr/>
          <p:nvPr/>
        </p:nvPicPr>
        <p:blipFill>
          <a:blip r:embed="rId1"/>
          <a:stretch/>
        </p:blipFill>
        <p:spPr>
          <a:xfrm>
            <a:off x="4648320" y="3505320"/>
            <a:ext cx="4267080" cy="335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http://www.messiah.edu/Oakes/fungi_on_wood/club%20and%20coral/images/Tubifera%20ferrLogGE.jpg"/>
          <p:cNvPicPr/>
          <p:nvPr/>
        </p:nvPicPr>
        <p:blipFill>
          <a:blip r:embed="rId2"/>
          <a:stretch/>
        </p:blipFill>
        <p:spPr>
          <a:xfrm>
            <a:off x="762120" y="388620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toration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ifficult on lands tha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t organic matter due to leaching, over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en subjected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’s the ultimate f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max sta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it last forever with no disturb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 loss of nutrients in soil, slow biological deteri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4:10:22Z</dcterms:created>
  <dc:creator>tosborne</dc:creator>
  <dc:description/>
  <dc:language>en-US</dc:language>
  <cp:lastModifiedBy>infosys</cp:lastModifiedBy>
  <dcterms:modified xsi:type="dcterms:W3CDTF">2015-10-22T23:41:39Z</dcterms:modified>
  <cp:revision>29</cp:revision>
  <dc:subject/>
  <dc:title>Chapter 9 Succession and Restoration</dc:title>
</cp:coreProperties>
</file>